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71E-C8E0-4172-80F0-C3CB61D2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CEA-A495-4E2D-9B5E-2AC9124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0EF-4A1D-4A03-AEA8-3D6C00D4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CFD-D1F9-4BE9-BE08-F3C395A5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61B-56F5-4963-A79B-07C22891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35B4-69F6-4247-8B6B-F7DA934E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1C3B-F86C-480B-830E-3736271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FE0-FC55-4E5E-A4B8-2635FE72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85A4-9AE8-4D04-BC76-721F0B8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39C0-ECB9-44E8-8CB5-6307911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25D5-50A4-4FF9-BEF0-1104A98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63B-8068-4677-83A7-5FC22FA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9FA5-B01E-4C88-AB74-8BE20ED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32E5-7B83-414D-8727-C78DDFE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198-D5CF-4E2E-94DA-64A79B6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045-43C5-407F-8B5C-0C0812B9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C28-FA69-4B48-B25E-923F2B2A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2B5E-B1C6-4507-AF68-76A35571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48A2-8CF9-4D43-BCFA-00E652BD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DD3B-0182-442E-B181-8570840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4B4C-8783-4158-B066-86062C3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74F8-CB0E-4329-A009-83C0BCD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B35-4E9F-407F-AE62-2C52709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7F47-03A1-4880-A33D-E8C74B7C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0BEB-5A80-4681-9175-042D3B5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E487-92A0-4D5A-A129-2C0767E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68B0-3124-405F-A414-13F6470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2E3A-A315-42EF-BD12-C86F891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F7D0-7D8D-4750-B6D6-F6190DF0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5957-9CF6-4B51-B8F6-6D7B018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1DE8-25E2-4908-8AF1-0F6AB1B7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7DEB-18A2-4531-BEE2-7AB7787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D9ED-1E70-4613-8FEF-574DD99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76C-AF5B-4A73-A361-1362906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F329-DC64-4977-AEB5-7884D5C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B07B-5953-4544-BA10-3A75AFF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8FA8-307D-477A-9B60-85BA775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87B3-8D2B-49B7-9670-CCEADFB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986A-5C28-4C27-820C-F1D816C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A3F5-A4B8-443D-8686-D71A4F9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548F-A5E2-4BE7-9ED7-72A02369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50A4-FF59-458B-A2BC-433C08C4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C666-98D5-4DF4-B0FE-92391EB9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54D-77FB-44E1-92F8-9B88328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424-7F1A-41B4-A5FB-CACCC90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BF7-1F71-4043-87ED-D5FF6B4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FC8-225D-4F2E-A010-56FE3BD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89C-FDC2-403D-9FB8-2318B6CC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B4E9-AC04-4EF1-988B-5F6E7A3D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663-FF3C-445E-AA22-8C60C9AFC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B3F-A04E-4D75-96F5-AE686B1188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36F-958D-4B54-A681-41440F1885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 I write in the Margin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is Marking the Text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Numbering Paragraph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What do ICircle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24240" y="320328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Marking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are Key Term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do I Underlin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What are Claim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Margin Mar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Summ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unknown vocabulary with squiggly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Nvasquez</cp:lastModifiedBy>
  <dcterms:modified xsi:type="dcterms:W3CDTF">2010-02-18T15:43:55Z</dcterms:modified>
  <cp:revision>27</cp:revision>
  <dc:subject/>
  <dc:title>Marking the Text</dc:title>
</cp:coreProperties>
</file>